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21D-FF60-467E-AE63-C6DDC6C2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33E-1FB1-43F9-B738-500BE71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351-A244-4B4C-8BE7-3FF3C1A9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516-29B9-46CE-8612-FBEE7CC2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79C-2291-4380-BE19-98F7266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B06-2513-4CAF-B959-9D9F4E7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D0C-A986-48CE-BC82-D56E3B85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B05-9A5A-4082-870E-5011E45D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F36-2ED6-49E7-AF0E-AE2B4BF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7C2-7862-488E-AF3D-1BC9F1A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D0D-A67F-4802-AEE8-2F5047B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354-E2AA-4733-B3A2-2F6F7F6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F55-2AE5-4160-B232-D9E76963C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The Riversid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Question Did You Expl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ked: How is it possible for a paperclip to magnetically attach itself to another paper clip, when the second paperclip is attached to a mag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Conduct Your Expl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arched magnetism’s effect on paperclips. We opened a webpage on the Internet and found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You Fi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und that in metals, some electrons are loose. When these electrons are placed near a magnet, the electrons line up. This turns the metal into a magnet, which is magnetically attached to the other papercl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1:07:50Z</dcterms:created>
  <dc:creator> </dc:creator>
  <dc:description/>
  <dc:language>en-US</dc:language>
  <cp:lastModifiedBy> </cp:lastModifiedBy>
  <dcterms:modified xsi:type="dcterms:W3CDTF">2010-03-15T11:16:22Z</dcterms:modified>
  <cp:revision>3</cp:revision>
  <dc:subject/>
  <dc:title>Magnetism</dc:title>
</cp:coreProperties>
</file>